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6C58-0940-4120-8932-CE539A28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C83-59EE-4B5F-9890-95394FFD45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7188-5D59-4F40-93FF-0CC6F3585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465-DF9E-45D7-9468-70D52AEAF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700-0B43-4353-9CB1-87F03B3AC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0941-927A-428C-B400-5FB3B525B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35A-CC2C-435E-87D5-E6C92A400B8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D26F-B9C9-4013-90C1-30111F19A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AA2-CA40-4901-BF7F-720A4871D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054-F825-40A8-9562-52DF5A8D0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1F8-575B-4627-A8C0-80E03988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156-5E1A-4DEF-837E-5107B051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834-ED64-4824-AFB1-2B8919D9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6A6-90EE-4088-8139-3BB3FA73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5B0-4289-4182-BD38-F76D4A7F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F4C-7A8C-4B37-951A-75F2B106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AC7-CCC6-465D-82DC-4F36922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F332-FF1F-4429-AD65-5B3DD26D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5C0-8748-45B9-918D-7146D66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B0BE-D19C-4CE3-8AFC-46EE0E48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74A-B882-43DB-9B61-BA314DD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302-E603-40F2-BF36-557895A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5119-97A0-4DB9-B4B8-8F61C1B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282-A2D3-4A63-B570-03B13F65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91E-83EF-470D-BE98-BEDD145F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9C17-51D7-4151-9D70-EF5FABA5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FD77-B5FD-4CD4-A413-2C9A5CC3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562-B41B-4249-A76E-AD3A479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63B-CC56-4AC5-A51A-1280B39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1C7-A04E-4299-B5B4-81320B5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707-27CD-4689-8052-F6FFC50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3A5-AFF9-426A-BA36-F50F578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A9D-4D0D-4979-8E26-33742CB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2E9-9C8E-4ABF-BBE3-128E28C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948-C0CC-4029-AF97-8A73F87C7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664-5B88-4491-AF4D-56BE36879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cursiune in lumea atomului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vatare prin metoda proiectel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Dreptunghi 4"/>
          <p:cNvSpPr/>
          <p:nvPr/>
        </p:nvSpPr>
        <p:spPr>
          <a:xfrm>
            <a:off x="1523880" y="5335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 Teach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struirea în societatea cunoaşterii</a:t>
            </a:r>
            <a:br>
              <a:rPr sz="1800"/>
            </a:b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Turda  , 2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304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rmeaza prezentarea unor argumente pro si contra pentru a primi un raspuns la intrebarea “Atomul ne este prieten sau dusman?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5" descr="Vedeţi imaginea la dimensiunea completă"/>
          <p:cNvPicPr/>
          <p:nvPr/>
        </p:nvPicPr>
        <p:blipFill>
          <a:blip r:embed="rId1"/>
          <a:stretch/>
        </p:blipFill>
        <p:spPr>
          <a:xfrm>
            <a:off x="2209680" y="1219320"/>
            <a:ext cx="4648320" cy="4190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509640" y="495288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zie nuclea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33520" y="56386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ltima ora din aceasta unitate de invatare este destinat evaluarii finale. Elevii isi prezinta lucrarile (prezentari powerpoint, postere, afise, culegere de probleme, referate, pliante et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ursiune in lumea atomul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sata de prof. Martini Er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resata elevilor din clasa a VII-a 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oala cu clasele I-VIII Moldovenesti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. Moldovenesti, jud. Clu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hydrogenanim"/>
          <p:cNvPicPr/>
          <p:nvPr/>
        </p:nvPicPr>
        <p:blipFill>
          <a:blip r:embed="rId1"/>
          <a:stretch/>
        </p:blipFill>
        <p:spPr>
          <a:xfrm>
            <a:off x="2286000" y="1828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tatea de invatare: atomul -componenta a materiei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cosmos"/>
          <p:cNvPicPr/>
          <p:nvPr/>
        </p:nvPicPr>
        <p:blipFill>
          <a:blip r:embed="rId1"/>
          <a:stretch/>
        </p:blipFill>
        <p:spPr>
          <a:xfrm>
            <a:off x="609480" y="1905120"/>
            <a:ext cx="381024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4724280" y="3429000"/>
            <a:ext cx="3918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 ne amintim ca cercetarea alcatuirii lumii este una dintre cele mai marete si mai nobile probleme puse de natura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alileo Galilie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ecff"/>
                </a:solidFill>
                <a:latin typeface="Arial"/>
              </a:rPr>
              <a:t>Intrebări-cheie ale curriculumului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1905120"/>
          <a:ext cx="8229600" cy="45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are esenţial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tem patrunde intr-o lume invizibila de particole si energi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ările unita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lasa atomii cunoscut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a organizare pe nivel microscopic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mistii pot fi stapanii atomilor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ări de conţin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descoperiri ne-au apropiat de atomi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structura are atomul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stim despre particolele elementare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importanta au Z si A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 sunt asemanarile si deosebirile intre atomi,izotopi si elemente chimice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legatura exista intre structura atomilor si locul ocupat in sistemul periodic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omii ne sunt prieteni sau dusman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ente specif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nvestigarea comportării unor  sisteme chimic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nalizarea, interpretarea observaţiilor/datelor obţinute prin activitate investigativ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formularea de concluzii şi de generalizări pentru punerea în evidenţă a proprietăţilor atomilor si a elementelor chimic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zolvarea de probleme în scopul stabilirii unor corelaţii relevante, demonstrând raţionamente deductive şi inductiv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plicarea regulilor/legilor în scopul rezolvării de problem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omunicarea înţelegerii conceptelor în rezolvarea de probleme, în formularea explicaţiilor, în conducerea investigaţiilor şi în raportarea rezultatel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comunicarea sub formă scrisă/orală a rezultatelor unui demers de investigare folosind terminologia ştiinţifică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prezentarea rezultatelor unui demers de investigare folosind terminologia ştiinţifică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utilizarea surselor bibliografice referitoare la istoricul descoperirii unor element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comunicarea rezultatelor unui demers investigativ cu ajutorul Internetului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Evaluarea consecinţelor proceselor şi acţiunii energiei nucleare asupra propriei persoane şi asupra mediulu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precierea avantajelor şi a dezavantajelor utilizării energiei nuclea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identificarea unor agenţi poluanţi ai apei, solului, aerului şi a căilor de prevenire a poluării radioactiv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715000" y="2514600"/>
            <a:ext cx="213372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ezentare din perspectiva elevulu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3733920"/>
            <a:ext cx="18288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oiecte elev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00400" y="5257800"/>
            <a:ext cx="22860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EVALUA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66680" y="2514600"/>
            <a:ext cx="19051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ezentarea proiectulu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29000" y="1600200"/>
            <a:ext cx="12193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PLIAN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791320" y="4343400"/>
            <a:ext cx="18288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Resur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pentru elev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108240" y="685800"/>
            <a:ext cx="2157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  <a:ea typeface="Arial"/>
              </a:rPr>
              <a:t>Planul unitat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0" descr="cosmos"/>
          <p:cNvPicPr/>
          <p:nvPr/>
        </p:nvPicPr>
        <p:blipFill>
          <a:blip r:embed="rId1"/>
          <a:stretch/>
        </p:blipFill>
        <p:spPr>
          <a:xfrm>
            <a:off x="3886200" y="3276720"/>
            <a:ext cx="6620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ata proiectului: 8 o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chipa de proiect” : colectivul clasei a VII-a A impartita in trei grup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Dreptunghi 5"/>
          <p:cNvSpPr/>
          <p:nvPr/>
        </p:nvSpPr>
        <p:spPr>
          <a:xfrm>
            <a:off x="45720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 ora este destinata prezentarii metodei proiectului, trezirii interesului pentru studiului aprofundat al atomilor, dar si aflarii nivelului de cunostinte al elevil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Dreptunghi 6"/>
          <p:cNvSpPr/>
          <p:nvPr/>
        </p:nvSpPr>
        <p:spPr>
          <a:xfrm>
            <a:off x="457200" y="3276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doua activitate este destinata celor care ne-au adus mai aproape de atomi. Elevii se documenteaza si pregatesc fise biografice sau prezentari ale vietii si a activitatii acestori savanti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Dreptunghi 7"/>
          <p:cNvSpPr/>
          <p:nvPr/>
        </p:nvSpPr>
        <p:spPr>
          <a:xfrm>
            <a:off x="533520" y="4343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n ora a treia elevii “patrund” in interiorul atomului folosind mai multe metode : brainstorming, modelare, vizionari de powerpointuri, metoda ciorchinelor, turul galeri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DSC03962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upele de elevi pregatesc prezentari powerpoint despre structura atomilor pe care le prezinta in cabinetul AeL si se vor posta pe wiki-ul clasei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http://atomulme.wikispaces.com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Dreptunghi 5"/>
          <p:cNvSpPr/>
          <p:nvPr/>
        </p:nvSpPr>
        <p:spPr>
          <a:xfrm>
            <a:off x="762120" y="1905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atea urmatoare este destinata descrierii calitative si cantitative al atomilor si rezolvarii unor probleme legate de masa atomica, molul de atomi, numarul lui Avogadro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atea se finalizeaza cu realizarea unei culegeri de probleme care se posteaza pe wiki si se listeaza pentru portofoliile persona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ecare elev isi alege un izotop sau un element chimic pe care il studieaza pe parcursul a doua saptamani. Din datele culese  realizeaza prezentari  powerpoi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5T23:09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